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BFDC-FD0D-47BD-8D5D-CE563AAFB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0C3D-4BEB-4314-819C-35A13305F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740-C466-4642-BD93-14A22D00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E61-17D3-4F75-AC89-7A15DE2D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9DB-A6E6-40DE-94E2-191CFDAF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41A-24F8-4789-A2E2-9E6CABC7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AA1-D0AE-4398-84EF-0AEC0958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860-82A3-40FA-9DD0-1D446494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D80-7FAB-4182-AE7F-0BE90C70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16D-F9E1-41FE-80C8-2058EA5A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6C2-FFED-4EF0-A65D-8503DB39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17A-9BE3-42EF-B4E9-9C6A0B54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BE7-9B83-4F8E-9D5E-34A7B708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509-25C5-4E0B-ADEA-1D2C6AF0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0558-1BF8-4F76-961E-56563044F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o soy muy enérgica y estúpida pero yo soy perezosa ahora. Yo quiero tener una fiesta pero mi mamá y papá estan en la cas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3505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. Yo tengo quiera divertida! ¿por qué no vienes a mi cas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 Aww quiere vivir tu vid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7:49Z</dcterms:modified>
  <cp:revision>106</cp:revision>
  <dc:subject/>
  <dc:title>Profile</dc:title>
</cp:coreProperties>
</file>